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E33-0D37-4187-AC4E-F59BCC7E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681-54CF-4CD8-8740-004202E4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481-17C5-457F-BEED-7C0FEF5B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7F4-1F22-42D9-9B57-CB08D373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2CBB-B569-47FF-BADE-7475A5DF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07CE-BEE0-4B9A-A067-EE2672F6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660F-0AB8-4C41-B699-211BBAA3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BC63-3A94-4866-8208-36D1E411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9AE0-CD43-4B28-8A4A-016A8E78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E732-0323-4C65-96CF-D102F295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695C-C93B-4AFB-917C-D26B9CFE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672-B7A2-441B-B6B6-F1D3EF16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E6F6-CADF-4F5B-8FE7-57507E7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3F18-FEEB-4F76-9E43-E0699990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C9FE-347C-481D-B30F-A44096B2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5C26-DBF5-498A-AA10-A33F222F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10C4-C9CC-4A77-AD23-81820331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F10-6317-4A42-8B27-B005EAB1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39C-FFD4-4077-8103-7A1F7533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F72-3EAA-4557-A6E9-5486C832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31D-E345-4DAB-A2CB-A52DAA52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E52-C447-4FA5-885F-EC45052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736-E620-4C54-960E-7B1C9505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3C0-991F-4BF6-8507-3071EA32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0F2C-5B69-4082-89BA-47F5F267D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F406-4318-4ABE-8AFF-2506EC5ED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1430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481"/>
                </a:solidFill>
                <a:latin typeface="Verdana"/>
              </a:rPr>
              <a:t>Question 3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5481"/>
                </a:solidFill>
                <a:latin typeface="Tahoma"/>
              </a:rPr>
              <a:t>Ryan, Alecia, and Taihlo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ife as we know it could not exist without water. Water has the following propertie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it is cohesive, they form hydrogen bonds with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it is adhesive, they form hydrogen bonds with other polar surf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it is a liquid at room body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it has high specific h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) it has high heat of vaporiz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) it’s greatest density occurs at 4 degrees Celsi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Question 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Question 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400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3341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715000" cy="4467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1690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1433520"/>
            <a:ext cx="6019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1631880"/>
            <a:ext cx="6705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22Z</dcterms:created>
  <dc:creator>xpstudent</dc:creator>
  <dc:description/>
  <dc:language>en-US</dc:language>
  <cp:lastModifiedBy>xpstudent</cp:lastModifiedBy>
  <dcterms:modified xsi:type="dcterms:W3CDTF">2010-09-22T14:38:08Z</dcterms:modified>
  <cp:revision>4</cp:revision>
  <dc:subject/>
  <dc:title>Question 3 </dc:title>
</cp:coreProperties>
</file>